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9EF7-DE00-4826-BE77-9D5DE63D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9A1-B40A-4508-9F72-09D73122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611-5141-4A91-ADC1-CCCA5E88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97A-8A7A-49FC-B8DA-25BF482C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6095-943C-4245-B119-72A0DD1B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6F40-C561-4D21-9B1C-9E31F832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5D43-D0D0-49CA-9FE4-A2D4C50C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C027-0668-442C-AD29-56573C67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86C6-7D10-4224-BA94-8AD3EC94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5E1A-1D41-4ADF-A1AD-888EE543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A3E3-A5B4-47C6-AAB9-11E3FB09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CBBF-F2BA-4E39-991F-64AF8FDD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2B79-31A8-425B-AD8E-0683FC8D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3819-1641-4588-BBE7-DF7FA585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83CC-461C-4735-BA56-40568346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2B3E-67B6-4A29-8FD7-F4C74C57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7C04-E708-4FD5-B97C-AB98BD49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20EB7-AC1D-4D2D-86E6-4A3E1934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19FF0-3C4C-454D-931A-250C3511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FEBEF-20A9-407F-B43A-2FC4FA4D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87088-7683-44F2-8D05-732E9985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50DEC-0995-4233-AB6D-E996158F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40F-576D-49C8-BAC1-B48A4AF5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204C6-75AB-46E4-BCFC-4A66D4CB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23C41-064D-4CF5-B4DD-A30DC2B3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2FB20-AFC4-49D1-8E89-AC05571E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D1457-1065-46D5-9521-1D6EE438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5002F-8EBE-49BD-AEC6-7E0CA9B5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DDFAF-CAA2-4CF9-A42D-F8CF73FC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5AD9D-DF16-4C7C-9FF5-D1964CD7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D91A2-CB5A-482C-A1AE-B16C7D81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17F09-8339-40A5-83FD-34A7AC4D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BC0F1-0CBD-4A06-9940-EF1F078B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669-6521-4534-AD0B-9BB48884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D999C-7F37-4DC3-AEFE-3707AD3E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4778A-7BE5-4859-9FCD-06C966F4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76724-73C2-4649-9E4D-D2A227B2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991D9-40AE-4FCD-840E-B714E31C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8D02F-7C96-46D1-AF6A-B2623A68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9A22F-68B1-41B7-86EC-4A18DCFF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1AC16-BF34-4C51-9C8C-59717E2B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D2643-0922-4395-B3F0-2402D6C1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1DE4E-710C-426C-9DD8-F374E08A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BA532-7811-4751-B30C-916E6D4B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4667-E68B-4743-8CEF-A48B5461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FBEFC-E1B0-4CCC-A9F1-48BD7FFD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BF0DB-0538-43E9-9E05-1C2CEB2F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AFC00-6A68-442A-81A4-3D100C7F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6D58E-1A9B-43B3-840B-37AB1913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10B17-1054-41E2-ADB7-E35BC4FA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6B8BF-238C-412E-BFFA-7E9DBEB6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7301E-96E2-4B21-AD90-1C307AC4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D0CBD-E979-46C3-90E5-E2458831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93ECF-EA65-4B7C-B561-E01FE553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4809C-3335-4893-A471-5799EC09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56C-1974-435A-BCDC-0B53CBC4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7BD05-36AD-4845-95EF-1FE186A3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7EFCD-FC41-467E-A1CD-1BF3DFBA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043B3-D750-4301-8AB9-63ABB0F3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B1A77-3E0D-4425-992A-5A99F205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A4C55-0F61-4318-BF63-EB7D154F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B1DDA-1808-4577-B6F7-E4BFD9DE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2177E-CE34-4445-9593-530EAC73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07FDD-A69E-4115-B176-80888D88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941D4-D8ED-46B5-A0FA-033D29AE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AE98E-CD78-40CA-972C-A87B0217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355-9A58-4D9B-AC1F-81D7E15E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0476B-862E-4158-8CD9-A327B7B3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567AC-2565-490C-B4A9-EBCCF296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054C2-B2A9-4283-BECF-D928BCDC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8B572-CA90-42AF-996D-894B592F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CFAF7-6436-43C1-B47C-46470E11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33F84-FB58-4D92-9157-5A98F7E2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9D29E-1A77-465E-82B9-07A6F3C7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350E8-A374-4C33-A744-1E223FF2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AED1D-FC01-4ADB-B968-AB4DB007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7B20A-6895-47F3-8530-7614F2AF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AE2D-52C6-4690-8641-3A1DF2B3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26E10-990E-4B8E-9288-58479EB8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0EFAB-6B05-4CBF-A091-3BCBF4E6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78A35-6E86-46E2-A2D6-5DDCBBA8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8558E-7A7A-477D-A0AA-56E6586D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C5673-01DC-4BBF-BDA3-5722EDAE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05BDF-6F90-4C49-981C-D18745B8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68B62-0BD2-4412-860D-C4024A53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1609C-12C9-4A89-8C94-03D751EE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9D309-0528-4014-84EE-45381DC5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28291-8C82-41ED-9436-6CCAB95E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8E2-743F-4FBD-BE2D-61C948F9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29BDC-A385-48E7-9BB8-F2BA44DD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E725E-EEAE-480E-994A-24D24481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6B0E7-8A6F-4FD5-A3EE-DB012B96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DEDF8-2CD6-4EE9-9BE4-EF719517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0CDB6-DE0B-4EEB-9767-5F839EFA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320AF-32F1-4D55-8843-B4BB8157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A98C4-8CD5-443B-A2A2-B2330298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3FE5-EE8F-44A4-B534-DA802A34485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9F6B-B405-4E6E-80C0-B4B307E182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7824-4819-4DAC-A4E8-CD511C4BF8C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BFBC-F44E-4E0A-AD41-63FA7FB73D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534D-5794-44FD-ABA9-71A9B52A26F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BB7B-13BC-4603-8538-0F31ABE19A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8F77-BBAF-4090-9115-340B00FC798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2E29-23C9-4C1A-B7BB-2A0D3164DB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1428-C0BA-4D4A-828B-2111BC2F901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2FCD-8C3D-48FC-A6D7-6380E220C6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D1D4-C082-48A1-912C-7305EA24C2F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C712-A991-499C-8DAF-059BF6E01D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75DF-F1F8-4F2E-B5E1-9743BB91C5C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014D-F934-41A4-9A89-77278580F3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EBD3-252C-4CCD-998F-DE4881C8F2C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28D7-8F3B-4B71-87AB-5C7814B1A4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8"/>
          <p:cNvSpPr/>
          <p:nvPr/>
        </p:nvSpPr>
        <p:spPr>
          <a:xfrm>
            <a:off x="533520" y="144792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aecd"/>
                </a:solidFill>
                <a:latin typeface="Times New Roman"/>
              </a:rPr>
              <a:t>Expenses need to be recorded in the same in the same fiscal period that it is used to produce reven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aecd"/>
                </a:solidFill>
                <a:latin typeface="Times New Roman"/>
              </a:rPr>
              <a:t>The General Ledger accounts must be a current balance and these are updated at the end of the fiscal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aecd"/>
                </a:solidFill>
                <a:latin typeface="Times New Roman"/>
              </a:rPr>
              <a:t>Adjustments are changes made to update general ledger accounts at the end of the fiscal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Box 9"/>
          <p:cNvSpPr/>
          <p:nvPr/>
        </p:nvSpPr>
        <p:spPr>
          <a:xfrm>
            <a:off x="914400" y="652320"/>
            <a:ext cx="7467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Planning Adjustments on a Work Shee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3"/>
          <p:cNvSpPr/>
          <p:nvPr/>
        </p:nvSpPr>
        <p:spPr>
          <a:xfrm>
            <a:off x="380880" y="1143000"/>
            <a:ext cx="815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s to Ask in Analyzing an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balance of   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What should the balance be for this account? (How much was actually used during the fiscal period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hat must be done to correct the account bal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djustments are made?  (Debit and Credit Chang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2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366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D:\C21 PowerPoint\Multi_Journal\art for blue\Ch07\Ch07-02a.jpg"/>
          <p:cNvPicPr/>
          <p:nvPr/>
        </p:nvPicPr>
        <p:blipFill>
          <a:blip r:embed="rId3"/>
          <a:srcRect l="13213" t="0" r="0" b="81568"/>
          <a:stretch/>
        </p:blipFill>
        <p:spPr>
          <a:xfrm>
            <a:off x="380880" y="1630440"/>
            <a:ext cx="8305920" cy="1679400"/>
          </a:xfrm>
          <a:prstGeom prst="rect">
            <a:avLst/>
          </a:prstGeom>
          <a:ln w="0">
            <a:noFill/>
          </a:ln>
        </p:spPr>
      </p:pic>
      <p:sp>
        <p:nvSpPr>
          <p:cNvPr id="375" name="Oval 5"/>
          <p:cNvSpPr/>
          <p:nvPr/>
        </p:nvSpPr>
        <p:spPr>
          <a:xfrm>
            <a:off x="7315200" y="3078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7"/>
          <p:cNvSpPr/>
          <p:nvPr/>
        </p:nvSpPr>
        <p:spPr>
          <a:xfrm>
            <a:off x="8305920" y="19350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457200" y="473076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 the two parts of this adjustment with a small lett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arentheses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457200" y="39924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457200" y="4357800"/>
            <a:ext cx="39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14"/>
          <p:cNvGrpSpPr/>
          <p:nvPr/>
        </p:nvGrpSpPr>
        <p:grpSpPr>
          <a:xfrm>
            <a:off x="5867280" y="2163600"/>
            <a:ext cx="1600200" cy="761760"/>
            <a:chOff x="5867280" y="2163600"/>
            <a:chExt cx="1600200" cy="761760"/>
          </a:xfrm>
        </p:grpSpPr>
        <p:sp>
          <p:nvSpPr>
            <p:cNvPr id="381" name="Line 11"/>
            <p:cNvSpPr/>
            <p:nvPr/>
          </p:nvSpPr>
          <p:spPr>
            <a:xfrm>
              <a:off x="6324480" y="2544480"/>
              <a:ext cx="22860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2"/>
            <p:cNvSpPr/>
            <p:nvPr/>
          </p:nvSpPr>
          <p:spPr>
            <a:xfrm>
              <a:off x="6172200" y="2503080"/>
              <a:ext cx="12952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Oval 6"/>
            <p:cNvSpPr/>
            <p:nvPr/>
          </p:nvSpPr>
          <p:spPr>
            <a:xfrm>
              <a:off x="5867280" y="216360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Text Box 15"/>
          <p:cNvSpPr/>
          <p:nvPr/>
        </p:nvSpPr>
        <p:spPr>
          <a:xfrm>
            <a:off x="7429320" y="665892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7-2, page 1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2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242560" cy="13651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D:\C21 PowerPoint\Multi_Journal\art for blue\Ch07\Ch07-02b.jpg"/>
          <p:cNvPicPr/>
          <p:nvPr/>
        </p:nvPicPr>
        <p:blipFill>
          <a:blip r:embed="rId3"/>
          <a:srcRect l="13213" t="0" r="0" b="80303"/>
          <a:stretch/>
        </p:blipFill>
        <p:spPr>
          <a:xfrm>
            <a:off x="380880" y="1630440"/>
            <a:ext cx="8305920" cy="1793880"/>
          </a:xfrm>
          <a:prstGeom prst="rect">
            <a:avLst/>
          </a:prstGeom>
          <a:ln w="0">
            <a:noFill/>
          </a:ln>
        </p:spPr>
      </p:pic>
      <p:sp>
        <p:nvSpPr>
          <p:cNvPr id="387" name="Oval 5"/>
          <p:cNvSpPr/>
          <p:nvPr/>
        </p:nvSpPr>
        <p:spPr>
          <a:xfrm>
            <a:off x="7315200" y="3078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8305920" y="19350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457200" y="473076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 the two parts of this adjustment with a small lett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arentheses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b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457200" y="39924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457200" y="4357800"/>
            <a:ext cx="39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0"/>
          <p:cNvGrpSpPr/>
          <p:nvPr/>
        </p:nvGrpSpPr>
        <p:grpSpPr>
          <a:xfrm>
            <a:off x="5867280" y="2163600"/>
            <a:ext cx="1600200" cy="761760"/>
            <a:chOff x="5867280" y="2163600"/>
            <a:chExt cx="1600200" cy="761760"/>
          </a:xfrm>
        </p:grpSpPr>
        <p:sp>
          <p:nvSpPr>
            <p:cNvPr id="393" name="Line 11"/>
            <p:cNvSpPr/>
            <p:nvPr/>
          </p:nvSpPr>
          <p:spPr>
            <a:xfrm>
              <a:off x="6324480" y="2544480"/>
              <a:ext cx="22860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12"/>
            <p:cNvSpPr/>
            <p:nvPr/>
          </p:nvSpPr>
          <p:spPr>
            <a:xfrm>
              <a:off x="6172200" y="2503080"/>
              <a:ext cx="12952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Oval 13"/>
            <p:cNvSpPr/>
            <p:nvPr/>
          </p:nvSpPr>
          <p:spPr>
            <a:xfrm>
              <a:off x="5867280" y="216360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Text Box 14"/>
          <p:cNvSpPr/>
          <p:nvPr/>
        </p:nvSpPr>
        <p:spPr>
          <a:xfrm>
            <a:off x="7429320" y="665892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7-2, page 1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242560" cy="136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D:\C21 PowerPoint\Multi_Journal\art for blue\Ch07\Ch07-02c.jpg"/>
          <p:cNvPicPr/>
          <p:nvPr/>
        </p:nvPicPr>
        <p:blipFill>
          <a:blip r:embed="rId3"/>
          <a:srcRect l="30968" t="0" r="0" b="67097"/>
          <a:stretch/>
        </p:blipFill>
        <p:spPr>
          <a:xfrm>
            <a:off x="379440" y="1447920"/>
            <a:ext cx="5978520" cy="3984480"/>
          </a:xfrm>
          <a:prstGeom prst="rect">
            <a:avLst/>
          </a:prstGeom>
          <a:ln w="0">
            <a:noFill/>
          </a:ln>
        </p:spPr>
      </p:pic>
      <p:sp>
        <p:nvSpPr>
          <p:cNvPr id="399" name="Oval 4"/>
          <p:cNvSpPr/>
          <p:nvPr/>
        </p:nvSpPr>
        <p:spPr>
          <a:xfrm>
            <a:off x="2133720" y="464832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6"/>
          <p:cNvSpPr/>
          <p:nvPr/>
        </p:nvSpPr>
        <p:spPr>
          <a:xfrm>
            <a:off x="6248520" y="49528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6324480" y="354636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double 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6324480" y="19051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Rule a single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6324480" y="227016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both the Adjustments Debit and Credit colum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Group 12"/>
          <p:cNvGrpSpPr/>
          <p:nvPr/>
        </p:nvGrpSpPr>
        <p:grpSpPr>
          <a:xfrm>
            <a:off x="4495680" y="5333760"/>
            <a:ext cx="914400" cy="838440"/>
            <a:chOff x="4495680" y="5333760"/>
            <a:chExt cx="914400" cy="838440"/>
          </a:xfrm>
        </p:grpSpPr>
        <p:sp>
          <p:nvSpPr>
            <p:cNvPr id="405" name="Line 10"/>
            <p:cNvSpPr/>
            <p:nvPr/>
          </p:nvSpPr>
          <p:spPr>
            <a:xfrm flipV="1">
              <a:off x="4876920" y="5333760"/>
              <a:ext cx="533160" cy="6094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Oval 5"/>
            <p:cNvSpPr/>
            <p:nvPr/>
          </p:nvSpPr>
          <p:spPr>
            <a:xfrm>
              <a:off x="4495680" y="563904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Text Box 13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7-2, page 1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20:57:13Z</dcterms:created>
  <dc:creator>Mary Colleen McLaughlin</dc:creator>
  <dc:description/>
  <dc:language>en-US</dc:language>
  <cp:lastModifiedBy>David Combs</cp:lastModifiedBy>
  <cp:lastPrinted>1999-03-30T19:55:23Z</cp:lastPrinted>
  <dcterms:modified xsi:type="dcterms:W3CDTF">2012-11-06T00:48:24Z</dcterms:modified>
  <cp:revision>27</cp:revision>
  <dc:subject/>
  <dc:title>THE ACCOUNTING EQUATION</dc:title>
</cp:coreProperties>
</file>